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78C-C480-4EE0-A3FC-05237987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342-24AB-4DF7-B141-F4E43291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823-3A24-4B64-8BF9-DE9098CB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315-CD63-4054-A8CE-7B7C5DB3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E3E9-A095-4537-8466-4185B744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18ED-3F9D-4F8D-BA03-AD55AA6D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95DA-21C2-4F58-81D3-CC41FB92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2EAB-760D-42D6-B723-A2ED9D81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72E6-4DBC-43D4-92C1-CE4C90D9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AE83-0E0C-44C9-A636-8B80B059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8280-D015-4821-8E87-D00BD5F9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C9B-7B7A-4D14-B051-32311B2A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1AEC-9DA6-4D57-ADBC-033567D5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1D60-8A6D-44E8-BE8B-12BBB0E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EE3A-304E-4F81-8774-13DF4B14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DD1B-7C8C-48F2-BE37-1E70F770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5B40-79EE-48FC-9E77-39593612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68C-1EE7-40D8-9653-CD3E2AB1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44D-32A1-4E6B-B963-68F062E8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9B4-31F2-445B-B42D-50907688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218-FF78-4C7E-BE88-C89DBF2A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6B2-8452-43B4-83BE-9ABDD507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05D-7DFD-474A-BAD6-8EB81AEE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55A-9810-46E7-BDF2-41B31E9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1ECC-A363-4571-B52C-9685C3D3D6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D5E0-E30D-4A4A-8C86-D0FECEDB41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800600" cy="3138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438280"/>
            <a:ext cx="5562360" cy="27432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LEC</a:t>
            </a:r>
            <a:r>
              <a:rPr b="0" lang="ro-RO" sz="4000" spc="-1" strike="noStrike">
                <a:solidFill>
                  <a:srgbClr val="ff0000"/>
                </a:solidFill>
                <a:latin typeface="Comic Sans MS"/>
              </a:rPr>
              <a:t>Ţ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A ME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 DES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1143000"/>
            <a:ext cx="1600200" cy="304920"/>
          </a:xfrm>
          <a:prstGeom prst="rect">
            <a:avLst/>
          </a:prstGeom>
          <a:solidFill>
            <a:srgbClr val="b6b2b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5791320"/>
            <a:ext cx="2667240" cy="914400"/>
          </a:xfrm>
          <a:prstGeom prst="ellipse">
            <a:avLst/>
          </a:prstGeom>
          <a:solidFill>
            <a:srgbClr val="ffef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V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480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sa me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46483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caria mea prefer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31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 as vrea sa fiu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79600" y="1219320"/>
            <a:ext cx="4245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Diploma m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6934320" cy="3657600"/>
          </a:xfrm>
          <a:prstGeom prst="rect">
            <a:avLst/>
          </a:prstGeom>
          <a:gradFill rotWithShape="0">
            <a:gsLst>
              <a:gs pos="0">
                <a:srgbClr val="ffb800">
                  <a:alpha val="62352"/>
                </a:srgbClr>
              </a:gs>
              <a:gs pos="100000">
                <a:srgbClr val="755400">
                  <a:alpha val="89019"/>
                </a:srgbClr>
              </a:gs>
            </a:gsLst>
            <a:lin ang="8100000"/>
          </a:gradFill>
          <a:ln w="25560">
            <a:solidFill>
              <a:srgbClr val="3333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acord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66cc"/>
                </a:solidFill>
                <a:latin typeface="Comic Sans MS"/>
              </a:rPr>
              <a:t>DIPLOMA DE MER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ntru cel mai bu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enator al clase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data d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 februarie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091320" y="19461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2524800">
            <a:off x="5333760" y="3276720"/>
            <a:ext cx="1981080" cy="1887480"/>
          </a:xfrm>
          <a:prstGeom prst="rect">
            <a:avLst/>
          </a:prstGeom>
          <a:ln w="1584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5:03:33Z</dcterms:created>
  <dc:creator>curs</dc:creator>
  <dc:description/>
  <dc:language>en-US</dc:language>
  <cp:lastModifiedBy>curs</cp:lastModifiedBy>
  <dcterms:modified xsi:type="dcterms:W3CDTF">2011-02-25T14:41:18Z</dcterms:modified>
  <cp:revision>7</cp:revision>
  <dc:subject/>
  <dc:title>Colectie de desene</dc:title>
</cp:coreProperties>
</file>